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729-C0C6-4E35-B016-5435EEF5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413-C30E-4EC7-BD09-AD5235C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5B6-ACCD-4BBF-B3F0-21615DAC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455-524A-4959-9D04-E76A67AA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24F-D5DB-40A1-89DD-F21355E2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38A-2F44-4A56-9A69-0A1DB5B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379-A37D-46F5-9C66-11A2158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662-67B0-48B5-9086-D74DEE3A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5E0-BFB7-4E52-B8C8-F35E23B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711-2D96-4A71-BAC9-242F4A9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310-DF7B-4421-B2A6-1062B9C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D7B-064A-4176-A7AA-21246F3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20D-A3DA-430D-B374-E6D08638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eb.mit.edu/invent/iow/sillyputty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253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990720"/>
            <a:ext cx="5181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ff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lly Put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ff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53360" y="239760"/>
            <a:ext cx="2385720" cy="2274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505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nvented by: Peter Hodg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utty head"/>
          <p:cNvPicPr/>
          <p:nvPr/>
        </p:nvPicPr>
        <p:blipFill>
          <a:blip r:embed="rId1">
            <a:lum bright="-6000"/>
          </a:blip>
          <a:srcRect l="-2362" t="12783" r="5999" b="4786"/>
          <a:stretch/>
        </p:blipFill>
        <p:spPr>
          <a:xfrm>
            <a:off x="228600" y="838080"/>
            <a:ext cx="2717640" cy="190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utty Man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4008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utty Fortress"/>
          <p:cNvPicPr/>
          <p:nvPr/>
        </p:nvPicPr>
        <p:blipFill>
          <a:blip r:embed="rId3"/>
          <a:stretch/>
        </p:blipFill>
        <p:spPr>
          <a:xfrm>
            <a:off x="4038480" y="533520"/>
            <a:ext cx="4524480" cy="20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9625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illy Putty,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895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y Putty is fun to play 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Silly Pu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ly Putty picks up lint, dirt, pet hair, and can stabilize wobbly furni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ly Putty was a multi-million dollar se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for stress reduction and physical 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 recognized name in over 95% of American house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retches further than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Hodg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was unemployed and then found the idea of silly pu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lots of money from his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nutty putty then he changed it to silly pu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was fascinated with his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19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8:10Z</dcterms:created>
  <dc:creator>install</dc:creator>
  <dc:description/>
  <dc:language>en-US</dc:language>
  <cp:lastModifiedBy>install</cp:lastModifiedBy>
  <dcterms:modified xsi:type="dcterms:W3CDTF">2011-01-14T17:11:40Z</dcterms:modified>
  <cp:revision>11</cp:revision>
  <dc:subject/>
  <dc:title>Slide 1</dc:title>
</cp:coreProperties>
</file>